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9B52D-8D23-4032-8D52-9115B0CC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C3DBB-48C2-4911-A4A9-512EF7C9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234AA-30B8-4816-9450-C2A088C5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B96A0-E1D3-49BE-8831-4866C463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5835-0E4A-4B22-BC4F-483159649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5651-91CE-4C21-A979-E44A7342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6E18-7201-4201-B118-44F2F90E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2660-76DD-49E1-BC92-1AC62A54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FA10-FEF8-4FBD-AEAC-8E10D4B3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7070-4F81-42E1-A6DE-4C443491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0A8D-6AFA-4CA9-ADD8-F235FF1E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5DDA3-AFE8-47FB-9F3B-67D396B9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6980-CAF8-4721-A402-3ACA03FE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B472-E54D-4985-A2E9-4658C25B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9774-40B1-4042-A451-2728A2A5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A947-0684-4AB8-81C3-EBF33C13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ACEC-D890-48ED-A5BC-F52DB241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BB1BA-8B28-4AB2-BE1E-84E6648E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13081-8807-4DB0-B461-91F5A121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8B9E8-EB89-4A2D-8C61-A12CFFD8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15D6B-C01B-4E47-9313-0A2E3585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37F54-372F-497A-833E-96F68F33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9EEC2-93A0-47EF-8914-FA293F4A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18C74-4530-4260-B745-7697D6B9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E473-A016-4AFF-942F-2FE41BCFAC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0529-0413-4043-A00E-7096EE4223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nglish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citing Monda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gend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me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cabulary workboo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O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kin disease scabies which is also called the seven year itch is very uncomfortable if you have it you itc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disease is caused by the human itch mite this is a parasite that is so tiny the human eye can barely sea i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tes:Scale::Words:________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ndpaper:smooth::millstone:_______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swer ke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kin disease scabies, which is also called the seven- year itch, is very uncomfortable; if you have it, you it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disease is caused by the human itch mite. This is a parasite that is so tiny the human eye can barely see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13:03:21Z</dcterms:created>
  <dc:creator>student</dc:creator>
  <dc:description/>
  <dc:language>en-US</dc:language>
  <cp:lastModifiedBy>student</cp:lastModifiedBy>
  <dcterms:modified xsi:type="dcterms:W3CDTF">2010-08-23T19:18:37Z</dcterms:modified>
  <cp:revision>2</cp:revision>
  <dc:subject/>
  <dc:title>English</dc:title>
</cp:coreProperties>
</file>